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notesSlide1.xml" ContentType="application/vnd.openxmlformats-officedocument.presentationml.notesSlide+xml"/>
  <Override PartName="/ppt/notesSlides/_rels/notesSlide29.xml.rels" ContentType="application/vnd.openxmlformats-package.relationships+xml"/>
  <Override PartName="/ppt/notesSlides/_rels/notesSlide1.xml.rels" ContentType="application/vnd.openxmlformats-package.relationships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media/image1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  <p:sldId id="289" r:id="rId48"/>
    <p:sldId id="290" r:id="rId49"/>
    <p:sldId id="291" r:id="rId50"/>
    <p:sldId id="292" r:id="rId51"/>
    <p:sldId id="293" r:id="rId52"/>
    <p:sldId id="294" r:id="rId53"/>
    <p:sldId id="295" r:id="rId54"/>
    <p:sldId id="296" r:id="rId55"/>
    <p:sldId id="297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slide" Target="slides/slide34.xml"/><Relationship Id="rId49" Type="http://schemas.openxmlformats.org/officeDocument/2006/relationships/slide" Target="slides/slide35.xml"/><Relationship Id="rId50" Type="http://schemas.openxmlformats.org/officeDocument/2006/relationships/slide" Target="slides/slide36.xml"/><Relationship Id="rId51" Type="http://schemas.openxmlformats.org/officeDocument/2006/relationships/slide" Target="slides/slide37.xml"/><Relationship Id="rId52" Type="http://schemas.openxmlformats.org/officeDocument/2006/relationships/slide" Target="slides/slide38.xml"/><Relationship Id="rId53" Type="http://schemas.openxmlformats.org/officeDocument/2006/relationships/slide" Target="slides/slide39.xml"/><Relationship Id="rId54" Type="http://schemas.openxmlformats.org/officeDocument/2006/relationships/slide" Target="slides/slide40.xml"/><Relationship Id="rId55" Type="http://schemas.openxmlformats.org/officeDocument/2006/relationships/slide" Target="slides/slide41.xml"/><Relationship Id="rId56" Type="http://schemas.openxmlformats.org/officeDocument/2006/relationships/slide" Target="slides/slide4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halkboar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6C2AA-09FE-4D4B-971B-B01A3E758A3F}" type="datetime">
              <a:rPr b="0" lang="en-US" sz="1200" spc="-1" strike="noStrike">
                <a:solidFill>
                  <a:srgbClr val="ffffff"/>
                </a:solidFill>
                <a:latin typeface="Chalkboard"/>
              </a:rPr>
              <a:t>07/28/26</a:t>
            </a:fld>
            <a:endParaRPr b="0" lang="en-US" sz="1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Chalkboard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halkboar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1C383-E7F1-4FFE-BC10-D2DF16E48102}" type="slidenum">
              <a:rPr b="0" lang="en-US" sz="1200" spc="-1" strike="noStrike">
                <a:solidFill>
                  <a:srgbClr val="ffffff"/>
                </a:solidFill>
                <a:latin typeface="Chalkboar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281D1-EFF3-4D1B-B5EE-3B4B3077047E}" type="slidenum">
              <a:rPr b="0" lang="en-US" sz="1200" spc="-1" strike="noStrike">
                <a:solidFill>
                  <a:srgbClr val="ffffff"/>
                </a:solidFill>
                <a:latin typeface="Chalkboar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1DC5F-6BD9-4400-8CFF-236BD85A2F43}" type="slidenum">
              <a:rPr b="0" lang="en-US" sz="1200" spc="-1" strike="noStrike">
                <a:solidFill>
                  <a:srgbClr val="ffffff"/>
                </a:solidFill>
                <a:latin typeface="Chalkboar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88840" y="151920"/>
            <a:ext cx="7366320" cy="17780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88840" y="2069640"/>
            <a:ext cx="7366320" cy="192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888840" y="4179240"/>
            <a:ext cx="7366320" cy="192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88840" y="151920"/>
            <a:ext cx="7366320" cy="17780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888840" y="2069640"/>
            <a:ext cx="3594600" cy="403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3440" y="2069640"/>
            <a:ext cx="3594600" cy="403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88840" y="151920"/>
            <a:ext cx="7366320" cy="17780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888840" y="151920"/>
            <a:ext cx="7366320" cy="82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17520" algn="ctr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88840" y="151920"/>
            <a:ext cx="7366320" cy="17780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888840" y="2069640"/>
            <a:ext cx="3594600" cy="192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63440" y="2069640"/>
            <a:ext cx="3594600" cy="403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888840" y="4179240"/>
            <a:ext cx="3594600" cy="192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888840" y="151920"/>
            <a:ext cx="7366320" cy="17780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888840" y="2069640"/>
            <a:ext cx="3594600" cy="403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63440" y="2069640"/>
            <a:ext cx="3594600" cy="192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663440" y="4179240"/>
            <a:ext cx="3594600" cy="192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88840" y="151920"/>
            <a:ext cx="7366320" cy="17780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888840" y="2069640"/>
            <a:ext cx="3594600" cy="192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3440" y="2069640"/>
            <a:ext cx="3594600" cy="192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888840" y="4179240"/>
            <a:ext cx="7366320" cy="192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88840" y="151920"/>
            <a:ext cx="7366320" cy="17780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888840" y="2069640"/>
            <a:ext cx="7366320" cy="192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888840" y="4179240"/>
            <a:ext cx="7366320" cy="192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88840" y="151920"/>
            <a:ext cx="7366320" cy="17780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888840" y="2069640"/>
            <a:ext cx="3594600" cy="192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63440" y="2069640"/>
            <a:ext cx="3594600" cy="192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888840" y="4179240"/>
            <a:ext cx="3594600" cy="192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4663440" y="4179240"/>
            <a:ext cx="3594600" cy="192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88840" y="151920"/>
            <a:ext cx="7366320" cy="17780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888840" y="2069640"/>
            <a:ext cx="2371680" cy="192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3379320" y="2069640"/>
            <a:ext cx="2371680" cy="192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5870160" y="2069640"/>
            <a:ext cx="2371680" cy="192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888840" y="4179240"/>
            <a:ext cx="2371680" cy="192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3379320" y="4179240"/>
            <a:ext cx="2371680" cy="192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5870160" y="4179240"/>
            <a:ext cx="2371680" cy="192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88840" y="151920"/>
            <a:ext cx="7366320" cy="17780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88840" y="2069640"/>
            <a:ext cx="3594600" cy="192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3440" y="2069640"/>
            <a:ext cx="3594600" cy="192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888840" y="4179240"/>
            <a:ext cx="3594600" cy="192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63440" y="4179240"/>
            <a:ext cx="3594600" cy="192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888840" y="151920"/>
            <a:ext cx="7366320" cy="17780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888840" y="2069640"/>
            <a:ext cx="736632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17520" indent="0" algn="ctr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88840" y="151920"/>
            <a:ext cx="7366320" cy="17780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888840" y="2069640"/>
            <a:ext cx="7366320" cy="403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888840" y="151920"/>
            <a:ext cx="7366320" cy="17780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888840" y="2069640"/>
            <a:ext cx="3594600" cy="403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63440" y="2069640"/>
            <a:ext cx="3594600" cy="403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88840" y="151920"/>
            <a:ext cx="7366320" cy="17780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888840" y="151920"/>
            <a:ext cx="7366320" cy="82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17520" algn="ctr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88840" y="151920"/>
            <a:ext cx="7366320" cy="17780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888840" y="2069640"/>
            <a:ext cx="3594600" cy="192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63440" y="2069640"/>
            <a:ext cx="3594600" cy="403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888840" y="4179240"/>
            <a:ext cx="3594600" cy="192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888840" y="151920"/>
            <a:ext cx="7366320" cy="17780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888840" y="2069640"/>
            <a:ext cx="3594600" cy="403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63440" y="2069640"/>
            <a:ext cx="3594600" cy="192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663440" y="4179240"/>
            <a:ext cx="3594600" cy="192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88840" y="151920"/>
            <a:ext cx="7366320" cy="17780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888840" y="2069640"/>
            <a:ext cx="3594600" cy="192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63440" y="2069640"/>
            <a:ext cx="3594600" cy="192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888840" y="4179240"/>
            <a:ext cx="7366320" cy="192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888840" y="151920"/>
            <a:ext cx="7366320" cy="17780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888840" y="2069640"/>
            <a:ext cx="7366320" cy="192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888840" y="4179240"/>
            <a:ext cx="7366320" cy="192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88840" y="151920"/>
            <a:ext cx="7366320" cy="17780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888840" y="2069640"/>
            <a:ext cx="3594600" cy="192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63440" y="2069640"/>
            <a:ext cx="3594600" cy="192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888840" y="4179240"/>
            <a:ext cx="3594600" cy="192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663440" y="4179240"/>
            <a:ext cx="3594600" cy="192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88840" y="151920"/>
            <a:ext cx="7366320" cy="17780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88840" y="2069640"/>
            <a:ext cx="2371680" cy="192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79320" y="2069640"/>
            <a:ext cx="2371680" cy="192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870160" y="2069640"/>
            <a:ext cx="2371680" cy="192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888840" y="4179240"/>
            <a:ext cx="2371680" cy="192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79320" y="4179240"/>
            <a:ext cx="2371680" cy="192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870160" y="4179240"/>
            <a:ext cx="2371680" cy="192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888840" y="151920"/>
            <a:ext cx="7366320" cy="17780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888840" y="2069640"/>
            <a:ext cx="2371680" cy="192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379320" y="2069640"/>
            <a:ext cx="2371680" cy="192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5870160" y="2069640"/>
            <a:ext cx="2371680" cy="192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888840" y="4179240"/>
            <a:ext cx="2371680" cy="192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379320" y="4179240"/>
            <a:ext cx="2371680" cy="192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5870160" y="4179240"/>
            <a:ext cx="2371680" cy="192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888840" y="151920"/>
            <a:ext cx="7366320" cy="17780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888840" y="2069640"/>
            <a:ext cx="736632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17520" indent="0" algn="ctr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888840" y="151920"/>
            <a:ext cx="7366320" cy="17780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888840" y="2069640"/>
            <a:ext cx="7366320" cy="403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88840" y="151920"/>
            <a:ext cx="7366320" cy="17780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888840" y="2069640"/>
            <a:ext cx="3594600" cy="403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63440" y="2069640"/>
            <a:ext cx="3594600" cy="403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888840" y="151920"/>
            <a:ext cx="7366320" cy="17780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888840" y="151920"/>
            <a:ext cx="7366320" cy="82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17520" algn="ctr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888840" y="151920"/>
            <a:ext cx="7366320" cy="17780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888840" y="2069640"/>
            <a:ext cx="3594600" cy="192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63440" y="2069640"/>
            <a:ext cx="3594600" cy="403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888840" y="4179240"/>
            <a:ext cx="3594600" cy="192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888840" y="151920"/>
            <a:ext cx="7366320" cy="17780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888840" y="2069640"/>
            <a:ext cx="3594600" cy="403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63440" y="2069640"/>
            <a:ext cx="3594600" cy="192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663440" y="4179240"/>
            <a:ext cx="3594600" cy="192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888840" y="151920"/>
            <a:ext cx="7366320" cy="17780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888840" y="2069640"/>
            <a:ext cx="3594600" cy="192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63440" y="2069640"/>
            <a:ext cx="3594600" cy="192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888840" y="4179240"/>
            <a:ext cx="7366320" cy="192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88840" y="151920"/>
            <a:ext cx="7366320" cy="17780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888840" y="2069640"/>
            <a:ext cx="7366320" cy="192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888840" y="4179240"/>
            <a:ext cx="7366320" cy="192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888840" y="151920"/>
            <a:ext cx="7366320" cy="17780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88840" y="2069640"/>
            <a:ext cx="3594600" cy="192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63440" y="2069640"/>
            <a:ext cx="3594600" cy="192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888840" y="4179240"/>
            <a:ext cx="3594600" cy="192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663440" y="4179240"/>
            <a:ext cx="3594600" cy="192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888840" y="151920"/>
            <a:ext cx="7366320" cy="17780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888840" y="2069640"/>
            <a:ext cx="2371680" cy="192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3379320" y="2069640"/>
            <a:ext cx="2371680" cy="192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5870160" y="2069640"/>
            <a:ext cx="2371680" cy="192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888840" y="4179240"/>
            <a:ext cx="2371680" cy="192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3379320" y="4179240"/>
            <a:ext cx="2371680" cy="192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5870160" y="4179240"/>
            <a:ext cx="2371680" cy="192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888840" y="151920"/>
            <a:ext cx="7366320" cy="17780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888840" y="2069640"/>
            <a:ext cx="736632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17520" indent="0" algn="ctr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888840" y="151920"/>
            <a:ext cx="7366320" cy="17780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888840" y="2069640"/>
            <a:ext cx="7366320" cy="403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888840" y="151920"/>
            <a:ext cx="7366320" cy="17780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888840" y="2069640"/>
            <a:ext cx="3594600" cy="403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63440" y="2069640"/>
            <a:ext cx="3594600" cy="403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888840" y="151920"/>
            <a:ext cx="7366320" cy="17780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888840" y="151920"/>
            <a:ext cx="7366320" cy="82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17520" algn="ctr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888840" y="151920"/>
            <a:ext cx="7366320" cy="17780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888840" y="2069640"/>
            <a:ext cx="3594600" cy="192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63440" y="2069640"/>
            <a:ext cx="3594600" cy="403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888840" y="4179240"/>
            <a:ext cx="3594600" cy="192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888840" y="151920"/>
            <a:ext cx="7366320" cy="17780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888840" y="2069640"/>
            <a:ext cx="736632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17520" indent="0" algn="ctr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888840" y="151920"/>
            <a:ext cx="7366320" cy="17780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888840" y="2069640"/>
            <a:ext cx="3594600" cy="403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63440" y="2069640"/>
            <a:ext cx="3594600" cy="192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63440" y="4179240"/>
            <a:ext cx="3594600" cy="192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888840" y="151920"/>
            <a:ext cx="7366320" cy="17780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888840" y="2069640"/>
            <a:ext cx="3594600" cy="192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63440" y="2069640"/>
            <a:ext cx="3594600" cy="192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888840" y="4179240"/>
            <a:ext cx="7366320" cy="192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888840" y="151920"/>
            <a:ext cx="7366320" cy="17780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888840" y="2069640"/>
            <a:ext cx="7366320" cy="192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888840" y="4179240"/>
            <a:ext cx="7366320" cy="192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888840" y="151920"/>
            <a:ext cx="7366320" cy="17780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888840" y="2069640"/>
            <a:ext cx="3594600" cy="192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63440" y="2069640"/>
            <a:ext cx="3594600" cy="192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888840" y="4179240"/>
            <a:ext cx="3594600" cy="192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63440" y="4179240"/>
            <a:ext cx="3594600" cy="192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888840" y="151920"/>
            <a:ext cx="7366320" cy="17780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888840" y="2069640"/>
            <a:ext cx="2371680" cy="192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379320" y="2069640"/>
            <a:ext cx="2371680" cy="192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5870160" y="2069640"/>
            <a:ext cx="2371680" cy="192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888840" y="4179240"/>
            <a:ext cx="2371680" cy="192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379320" y="4179240"/>
            <a:ext cx="2371680" cy="192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5870160" y="4179240"/>
            <a:ext cx="2371680" cy="192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88840" y="151920"/>
            <a:ext cx="7366320" cy="17780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88840" y="2069640"/>
            <a:ext cx="7366320" cy="403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88840" y="151920"/>
            <a:ext cx="7366320" cy="17780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888840" y="2069640"/>
            <a:ext cx="3594600" cy="403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3440" y="2069640"/>
            <a:ext cx="3594600" cy="403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88840" y="151920"/>
            <a:ext cx="7366320" cy="17780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888840" y="151920"/>
            <a:ext cx="7366320" cy="82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17520" algn="ctr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88840" y="151920"/>
            <a:ext cx="7366320" cy="17780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88840" y="2069640"/>
            <a:ext cx="3594600" cy="192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440" y="2069640"/>
            <a:ext cx="3594600" cy="403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888840" y="4179240"/>
            <a:ext cx="3594600" cy="192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88840" y="151920"/>
            <a:ext cx="7366320" cy="17780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888840" y="2069640"/>
            <a:ext cx="736632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17520" indent="0" algn="ctr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88840" y="151920"/>
            <a:ext cx="7366320" cy="17780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88840" y="2069640"/>
            <a:ext cx="3594600" cy="403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3440" y="2069640"/>
            <a:ext cx="3594600" cy="192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3440" y="4179240"/>
            <a:ext cx="3594600" cy="192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88840" y="151920"/>
            <a:ext cx="7366320" cy="17780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88840" y="2069640"/>
            <a:ext cx="3594600" cy="192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3440" y="2069640"/>
            <a:ext cx="3594600" cy="192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888840" y="4179240"/>
            <a:ext cx="7366320" cy="192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88840" y="151920"/>
            <a:ext cx="7366320" cy="17780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88840" y="2069640"/>
            <a:ext cx="7366320" cy="192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888840" y="4179240"/>
            <a:ext cx="7366320" cy="192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88840" y="151920"/>
            <a:ext cx="7366320" cy="17780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88840" y="2069640"/>
            <a:ext cx="3594600" cy="192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3440" y="2069640"/>
            <a:ext cx="3594600" cy="192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888840" y="4179240"/>
            <a:ext cx="3594600" cy="192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3440" y="4179240"/>
            <a:ext cx="3594600" cy="192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88840" y="151920"/>
            <a:ext cx="7366320" cy="17780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88840" y="2069640"/>
            <a:ext cx="2371680" cy="192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79320" y="2069640"/>
            <a:ext cx="2371680" cy="192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870160" y="2069640"/>
            <a:ext cx="2371680" cy="192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888840" y="4179240"/>
            <a:ext cx="2371680" cy="192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79320" y="4179240"/>
            <a:ext cx="2371680" cy="192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870160" y="4179240"/>
            <a:ext cx="2371680" cy="192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88840" y="151920"/>
            <a:ext cx="7366320" cy="17780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888840" y="2069640"/>
            <a:ext cx="736632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17520" indent="0" algn="ctr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88840" y="151920"/>
            <a:ext cx="7366320" cy="17780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88840" y="2069640"/>
            <a:ext cx="7366320" cy="403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88840" y="151920"/>
            <a:ext cx="7366320" cy="17780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88840" y="2069640"/>
            <a:ext cx="3594600" cy="403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3440" y="2069640"/>
            <a:ext cx="3594600" cy="403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88840" y="151920"/>
            <a:ext cx="7366320" cy="17780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888840" y="151920"/>
            <a:ext cx="7366320" cy="17780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888840" y="2069640"/>
            <a:ext cx="7366320" cy="403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888840" y="151920"/>
            <a:ext cx="7366320" cy="82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17520" algn="ctr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88840" y="151920"/>
            <a:ext cx="7366320" cy="17780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88840" y="2069640"/>
            <a:ext cx="3594600" cy="192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3440" y="2069640"/>
            <a:ext cx="3594600" cy="403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88840" y="4179240"/>
            <a:ext cx="3594600" cy="192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88840" y="151920"/>
            <a:ext cx="7366320" cy="17780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88840" y="2069640"/>
            <a:ext cx="3594600" cy="403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3440" y="2069640"/>
            <a:ext cx="3594600" cy="192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63440" y="4179240"/>
            <a:ext cx="3594600" cy="192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88840" y="151920"/>
            <a:ext cx="7366320" cy="17780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88840" y="2069640"/>
            <a:ext cx="3594600" cy="192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3440" y="2069640"/>
            <a:ext cx="3594600" cy="192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888840" y="4179240"/>
            <a:ext cx="7366320" cy="192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88840" y="151920"/>
            <a:ext cx="7366320" cy="17780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88840" y="2069640"/>
            <a:ext cx="7366320" cy="192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888840" y="4179240"/>
            <a:ext cx="7366320" cy="192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88840" y="151920"/>
            <a:ext cx="7366320" cy="17780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88840" y="2069640"/>
            <a:ext cx="3594600" cy="192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3440" y="2069640"/>
            <a:ext cx="3594600" cy="192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888840" y="4179240"/>
            <a:ext cx="3594600" cy="192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63440" y="4179240"/>
            <a:ext cx="3594600" cy="192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88840" y="151920"/>
            <a:ext cx="7366320" cy="17780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88840" y="2069640"/>
            <a:ext cx="2371680" cy="192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379320" y="2069640"/>
            <a:ext cx="2371680" cy="192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5870160" y="2069640"/>
            <a:ext cx="2371680" cy="192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888840" y="4179240"/>
            <a:ext cx="2371680" cy="192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379320" y="4179240"/>
            <a:ext cx="2371680" cy="192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5870160" y="4179240"/>
            <a:ext cx="2371680" cy="192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88840" y="151920"/>
            <a:ext cx="7366320" cy="17780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888840" y="2069640"/>
            <a:ext cx="736632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17520" indent="0" algn="ctr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88840" y="151920"/>
            <a:ext cx="7366320" cy="17780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88840" y="2069640"/>
            <a:ext cx="7366320" cy="403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88840" y="151920"/>
            <a:ext cx="7366320" cy="17780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888840" y="2069640"/>
            <a:ext cx="3594600" cy="403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63440" y="2069640"/>
            <a:ext cx="3594600" cy="403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88840" y="151920"/>
            <a:ext cx="7366320" cy="17780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88840" y="2069640"/>
            <a:ext cx="3594600" cy="403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3440" y="2069640"/>
            <a:ext cx="3594600" cy="403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88840" y="151920"/>
            <a:ext cx="7366320" cy="17780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888840" y="151920"/>
            <a:ext cx="7366320" cy="82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17520" algn="ctr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88840" y="151920"/>
            <a:ext cx="7366320" cy="17780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88840" y="2069640"/>
            <a:ext cx="3594600" cy="192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63440" y="2069640"/>
            <a:ext cx="3594600" cy="403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888840" y="4179240"/>
            <a:ext cx="3594600" cy="192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88840" y="151920"/>
            <a:ext cx="7366320" cy="17780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88840" y="2069640"/>
            <a:ext cx="3594600" cy="403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63440" y="2069640"/>
            <a:ext cx="3594600" cy="192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63440" y="4179240"/>
            <a:ext cx="3594600" cy="192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88840" y="151920"/>
            <a:ext cx="7366320" cy="17780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88840" y="2069640"/>
            <a:ext cx="3594600" cy="192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3440" y="2069640"/>
            <a:ext cx="3594600" cy="192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88840" y="4179240"/>
            <a:ext cx="7366320" cy="192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88840" y="151920"/>
            <a:ext cx="7366320" cy="17780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88840" y="2069640"/>
            <a:ext cx="7366320" cy="192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888840" y="4179240"/>
            <a:ext cx="7366320" cy="192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88840" y="151920"/>
            <a:ext cx="7366320" cy="17780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88840" y="2069640"/>
            <a:ext cx="3594600" cy="192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63440" y="2069640"/>
            <a:ext cx="3594600" cy="192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888840" y="4179240"/>
            <a:ext cx="3594600" cy="192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63440" y="4179240"/>
            <a:ext cx="3594600" cy="192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88840" y="151920"/>
            <a:ext cx="7366320" cy="17780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88840" y="2069640"/>
            <a:ext cx="2371680" cy="192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379320" y="2069640"/>
            <a:ext cx="2371680" cy="192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870160" y="2069640"/>
            <a:ext cx="2371680" cy="192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888840" y="4179240"/>
            <a:ext cx="2371680" cy="192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379320" y="4179240"/>
            <a:ext cx="2371680" cy="192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5870160" y="4179240"/>
            <a:ext cx="2371680" cy="192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88840" y="151920"/>
            <a:ext cx="7366320" cy="17780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88840" y="151920"/>
            <a:ext cx="7366320" cy="17780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888840" y="2069640"/>
            <a:ext cx="736632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17520" indent="0" algn="ctr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88840" y="151920"/>
            <a:ext cx="7366320" cy="17780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88840" y="2069640"/>
            <a:ext cx="7366320" cy="403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88840" y="151920"/>
            <a:ext cx="7366320" cy="17780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88840" y="2069640"/>
            <a:ext cx="3594600" cy="403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63440" y="2069640"/>
            <a:ext cx="3594600" cy="403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88840" y="151920"/>
            <a:ext cx="7366320" cy="17780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888840" y="151920"/>
            <a:ext cx="7366320" cy="82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17520" algn="ctr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88840" y="151920"/>
            <a:ext cx="7366320" cy="17780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88840" y="2069640"/>
            <a:ext cx="3594600" cy="192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63440" y="2069640"/>
            <a:ext cx="3594600" cy="403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888840" y="4179240"/>
            <a:ext cx="3594600" cy="192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88840" y="151920"/>
            <a:ext cx="7366320" cy="17780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88840" y="2069640"/>
            <a:ext cx="3594600" cy="403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63440" y="2069640"/>
            <a:ext cx="3594600" cy="192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63440" y="4179240"/>
            <a:ext cx="3594600" cy="192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88840" y="151920"/>
            <a:ext cx="7366320" cy="17780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88840" y="2069640"/>
            <a:ext cx="3594600" cy="192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63440" y="2069640"/>
            <a:ext cx="3594600" cy="192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888840" y="4179240"/>
            <a:ext cx="7366320" cy="192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88840" y="151920"/>
            <a:ext cx="7366320" cy="17780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88840" y="2069640"/>
            <a:ext cx="7366320" cy="192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888840" y="4179240"/>
            <a:ext cx="7366320" cy="192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88840" y="151920"/>
            <a:ext cx="7366320" cy="17780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88840" y="2069640"/>
            <a:ext cx="3594600" cy="192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63440" y="2069640"/>
            <a:ext cx="3594600" cy="192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888840" y="4179240"/>
            <a:ext cx="3594600" cy="192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63440" y="4179240"/>
            <a:ext cx="3594600" cy="192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888840" y="151920"/>
            <a:ext cx="7366320" cy="82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17520" algn="ctr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88840" y="151920"/>
            <a:ext cx="7366320" cy="17780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88840" y="2069640"/>
            <a:ext cx="2371680" cy="192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379320" y="2069640"/>
            <a:ext cx="2371680" cy="192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5870160" y="2069640"/>
            <a:ext cx="2371680" cy="192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888840" y="4179240"/>
            <a:ext cx="2371680" cy="192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379320" y="4179240"/>
            <a:ext cx="2371680" cy="192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5870160" y="4179240"/>
            <a:ext cx="2371680" cy="192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88840" y="151920"/>
            <a:ext cx="7366320" cy="17780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888840" y="2069640"/>
            <a:ext cx="736632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17520" indent="0" algn="ctr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88840" y="151920"/>
            <a:ext cx="7366320" cy="17780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888840" y="2069640"/>
            <a:ext cx="7366320" cy="403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88840" y="151920"/>
            <a:ext cx="7366320" cy="17780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88840" y="2069640"/>
            <a:ext cx="3594600" cy="403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3440" y="2069640"/>
            <a:ext cx="3594600" cy="403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88840" y="151920"/>
            <a:ext cx="7366320" cy="17780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888840" y="151920"/>
            <a:ext cx="7366320" cy="82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17520" algn="ctr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88840" y="151920"/>
            <a:ext cx="7366320" cy="17780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88840" y="2069640"/>
            <a:ext cx="3594600" cy="192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63440" y="2069640"/>
            <a:ext cx="3594600" cy="403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888840" y="4179240"/>
            <a:ext cx="3594600" cy="192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88840" y="151920"/>
            <a:ext cx="7366320" cy="17780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888840" y="2069640"/>
            <a:ext cx="3594600" cy="403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63440" y="2069640"/>
            <a:ext cx="3594600" cy="192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63440" y="4179240"/>
            <a:ext cx="3594600" cy="192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88840" y="151920"/>
            <a:ext cx="7366320" cy="17780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888840" y="2069640"/>
            <a:ext cx="3594600" cy="192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63440" y="2069640"/>
            <a:ext cx="3594600" cy="192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888840" y="4179240"/>
            <a:ext cx="7366320" cy="192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88840" y="151920"/>
            <a:ext cx="7366320" cy="17780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88840" y="2069640"/>
            <a:ext cx="3594600" cy="192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3440" y="2069640"/>
            <a:ext cx="3594600" cy="403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888840" y="4179240"/>
            <a:ext cx="3594600" cy="192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88840" y="151920"/>
            <a:ext cx="7366320" cy="17780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88840" y="2069640"/>
            <a:ext cx="7366320" cy="192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888840" y="4179240"/>
            <a:ext cx="7366320" cy="192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88840" y="151920"/>
            <a:ext cx="7366320" cy="17780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888840" y="2069640"/>
            <a:ext cx="3594600" cy="192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63440" y="2069640"/>
            <a:ext cx="3594600" cy="192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888840" y="4179240"/>
            <a:ext cx="3594600" cy="192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63440" y="4179240"/>
            <a:ext cx="3594600" cy="192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88840" y="151920"/>
            <a:ext cx="7366320" cy="17780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88840" y="2069640"/>
            <a:ext cx="2371680" cy="192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379320" y="2069640"/>
            <a:ext cx="2371680" cy="192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5870160" y="2069640"/>
            <a:ext cx="2371680" cy="192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888840" y="4179240"/>
            <a:ext cx="2371680" cy="192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379320" y="4179240"/>
            <a:ext cx="2371680" cy="192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5870160" y="4179240"/>
            <a:ext cx="2371680" cy="192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88840" y="151920"/>
            <a:ext cx="7366320" cy="17780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888840" y="2069640"/>
            <a:ext cx="736632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17520" indent="0" algn="ctr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88840" y="151920"/>
            <a:ext cx="7366320" cy="17780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88840" y="2069640"/>
            <a:ext cx="7366320" cy="403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88840" y="151920"/>
            <a:ext cx="7366320" cy="17780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88840" y="2069640"/>
            <a:ext cx="3594600" cy="403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63440" y="2069640"/>
            <a:ext cx="3594600" cy="403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88840" y="151920"/>
            <a:ext cx="7366320" cy="17780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888840" y="151920"/>
            <a:ext cx="7366320" cy="82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17520" algn="ctr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88840" y="151920"/>
            <a:ext cx="7366320" cy="17780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88840" y="2069640"/>
            <a:ext cx="3594600" cy="192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3440" y="2069640"/>
            <a:ext cx="3594600" cy="403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888840" y="4179240"/>
            <a:ext cx="3594600" cy="192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88840" y="151920"/>
            <a:ext cx="7366320" cy="17780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88840" y="2069640"/>
            <a:ext cx="3594600" cy="403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440" y="2069640"/>
            <a:ext cx="3594600" cy="192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63440" y="4179240"/>
            <a:ext cx="3594600" cy="192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88840" y="151920"/>
            <a:ext cx="7366320" cy="17780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888840" y="2069640"/>
            <a:ext cx="3594600" cy="403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63440" y="2069640"/>
            <a:ext cx="3594600" cy="192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663440" y="4179240"/>
            <a:ext cx="3594600" cy="192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88840" y="151920"/>
            <a:ext cx="7366320" cy="17780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88840" y="2069640"/>
            <a:ext cx="3594600" cy="192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63440" y="2069640"/>
            <a:ext cx="3594600" cy="192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888840" y="4179240"/>
            <a:ext cx="7366320" cy="192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88840" y="151920"/>
            <a:ext cx="7366320" cy="17780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88840" y="2069640"/>
            <a:ext cx="7366320" cy="192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888840" y="4179240"/>
            <a:ext cx="7366320" cy="192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88840" y="151920"/>
            <a:ext cx="7366320" cy="17780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88840" y="2069640"/>
            <a:ext cx="3594600" cy="192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63440" y="2069640"/>
            <a:ext cx="3594600" cy="192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888840" y="4179240"/>
            <a:ext cx="3594600" cy="192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663440" y="4179240"/>
            <a:ext cx="3594600" cy="192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88840" y="151920"/>
            <a:ext cx="7366320" cy="17780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88840" y="2069640"/>
            <a:ext cx="2371680" cy="192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79320" y="2069640"/>
            <a:ext cx="2371680" cy="192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5870160" y="2069640"/>
            <a:ext cx="2371680" cy="192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888840" y="4179240"/>
            <a:ext cx="2371680" cy="192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79320" y="4179240"/>
            <a:ext cx="2371680" cy="192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5870160" y="4179240"/>
            <a:ext cx="2371680" cy="192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88840" y="151920"/>
            <a:ext cx="7366320" cy="17780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888840" y="2069640"/>
            <a:ext cx="736632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17520" indent="0" algn="ctr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88840" y="151920"/>
            <a:ext cx="7366320" cy="17780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888840" y="2069640"/>
            <a:ext cx="7366320" cy="403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88840" y="151920"/>
            <a:ext cx="7366320" cy="17780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88840" y="2069640"/>
            <a:ext cx="3594600" cy="403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63440" y="2069640"/>
            <a:ext cx="3594600" cy="403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88840" y="151920"/>
            <a:ext cx="7366320" cy="17780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88840" y="151920"/>
            <a:ext cx="7366320" cy="17780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88840" y="2069640"/>
            <a:ext cx="3594600" cy="192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440" y="2069640"/>
            <a:ext cx="3594600" cy="192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888840" y="4179240"/>
            <a:ext cx="7366320" cy="192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888840" y="151920"/>
            <a:ext cx="7366320" cy="82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17520" algn="ctr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88840" y="151920"/>
            <a:ext cx="7366320" cy="17780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88840" y="2069640"/>
            <a:ext cx="3594600" cy="192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63440" y="2069640"/>
            <a:ext cx="3594600" cy="403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888840" y="4179240"/>
            <a:ext cx="3594600" cy="192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88840" y="151920"/>
            <a:ext cx="7366320" cy="17780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888840" y="2069640"/>
            <a:ext cx="3594600" cy="403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63440" y="2069640"/>
            <a:ext cx="3594600" cy="192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63440" y="4179240"/>
            <a:ext cx="3594600" cy="192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88840" y="151920"/>
            <a:ext cx="7366320" cy="17780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88840" y="2069640"/>
            <a:ext cx="3594600" cy="192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63440" y="2069640"/>
            <a:ext cx="3594600" cy="192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888840" y="4179240"/>
            <a:ext cx="7366320" cy="192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88840" y="151920"/>
            <a:ext cx="7366320" cy="17780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888840" y="2069640"/>
            <a:ext cx="7366320" cy="192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888840" y="4179240"/>
            <a:ext cx="7366320" cy="192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88840" y="151920"/>
            <a:ext cx="7366320" cy="17780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888840" y="2069640"/>
            <a:ext cx="3594600" cy="192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63440" y="2069640"/>
            <a:ext cx="3594600" cy="192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888840" y="4179240"/>
            <a:ext cx="3594600" cy="192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63440" y="4179240"/>
            <a:ext cx="3594600" cy="192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88840" y="151920"/>
            <a:ext cx="7366320" cy="17780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888840" y="2069640"/>
            <a:ext cx="2371680" cy="192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379320" y="2069640"/>
            <a:ext cx="2371680" cy="192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5870160" y="2069640"/>
            <a:ext cx="2371680" cy="192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888840" y="4179240"/>
            <a:ext cx="2371680" cy="192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379320" y="4179240"/>
            <a:ext cx="2371680" cy="192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5870160" y="4179240"/>
            <a:ext cx="2371680" cy="19263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888840" y="151920"/>
            <a:ext cx="7366320" cy="17780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888840" y="2069640"/>
            <a:ext cx="736632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17520" indent="0" algn="ctr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88840" y="151920"/>
            <a:ext cx="7366320" cy="17780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88840" y="2069640"/>
            <a:ext cx="7366320" cy="403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888840" y="3657600"/>
            <a:ext cx="7366320" cy="1028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37000"/>
          </a:bodyPr>
          <a:p>
            <a:pPr marL="1267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1" marL="126720" indent="-126720" algn="ctr">
              <a:buClr>
                <a:srgbClr val="ffffff"/>
              </a:buClr>
              <a:buFont typeface="Chalkboard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2" marL="126720" indent="-126720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3" marL="126720" indent="-126720" algn="ctr">
              <a:buClr>
                <a:srgbClr val="ffffff"/>
              </a:buClr>
              <a:buFont typeface="Chalkboard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4" marL="126720" indent="-126720" algn="ctr">
              <a:buClr>
                <a:srgbClr val="ffffff"/>
              </a:buClr>
              <a:buFont typeface="Chalkboar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5" marL="126720" indent="-126720" algn="ctr">
              <a:buClr>
                <a:srgbClr val="ffffff"/>
              </a:buClr>
              <a:buFont typeface="Chalkboar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6" marL="126720" indent="-126720" algn="ctr">
              <a:buClr>
                <a:srgbClr val="ffffff"/>
              </a:buClr>
              <a:buFont typeface="Chalkboar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88840" y="1802880"/>
            <a:ext cx="7366320" cy="17780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88840" y="151920"/>
            <a:ext cx="7366320" cy="17780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888840" y="2069640"/>
            <a:ext cx="3594240" cy="403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 fontScale="77000"/>
          </a:bodyPr>
          <a:p>
            <a:pPr marL="488880" indent="-244440">
              <a:spcBef>
                <a:spcPts val="22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  <a:p>
            <a:pPr lvl="1" marL="821160" indent="-244440">
              <a:spcBef>
                <a:spcPts val="22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  <a:p>
            <a:pPr lvl="2" marL="1144080" indent="-244440">
              <a:spcBef>
                <a:spcPts val="22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  <a:p>
            <a:pPr lvl="3" marL="1486080" indent="-244440">
              <a:spcBef>
                <a:spcPts val="22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  <a:p>
            <a:pPr lvl="4" marL="1838160" indent="-244440">
              <a:spcBef>
                <a:spcPts val="22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  <a:p>
            <a:pPr lvl="5" marL="1838160" indent="-244440">
              <a:spcBef>
                <a:spcPts val="22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  <a:p>
            <a:pPr lvl="6" marL="1838160" indent="-244440">
              <a:spcBef>
                <a:spcPts val="22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888840" y="151920"/>
            <a:ext cx="7366320" cy="17780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5346360" y="2069640"/>
            <a:ext cx="2908440" cy="403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 fontScale="71000"/>
          </a:bodyPr>
          <a:p>
            <a:pPr marL="450720" indent="-225360">
              <a:spcBef>
                <a:spcPts val="22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  <a:p>
            <a:pPr lvl="1" marL="757080" indent="-225360">
              <a:spcBef>
                <a:spcPts val="22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  <a:p>
            <a:pPr lvl="2" marL="1054800" indent="-225360">
              <a:spcBef>
                <a:spcPts val="22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  <a:p>
            <a:pPr lvl="3" marL="1370520" indent="-225360">
              <a:spcBef>
                <a:spcPts val="22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  <a:p>
            <a:pPr lvl="4" marL="1694880" indent="-225360">
              <a:spcBef>
                <a:spcPts val="22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  <a:p>
            <a:pPr lvl="5" marL="1694880" indent="-225360">
              <a:spcBef>
                <a:spcPts val="22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  <a:p>
            <a:pPr lvl="6" marL="1694880" indent="-225360">
              <a:spcBef>
                <a:spcPts val="22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body"/>
          </p:nvPr>
        </p:nvSpPr>
        <p:spPr>
          <a:xfrm>
            <a:off x="888840" y="749160"/>
            <a:ext cx="7366320" cy="5359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 fontScale="93000"/>
          </a:bodyPr>
          <a:p>
            <a:pPr marL="611280" indent="-315720">
              <a:spcBef>
                <a:spcPts val="40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1" marL="1012680" indent="-315720">
              <a:spcBef>
                <a:spcPts val="40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2" marL="1402200" indent="-315360">
              <a:spcBef>
                <a:spcPts val="40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3" marL="1815840" indent="-315720">
              <a:spcBef>
                <a:spcPts val="40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4" marL="2241000" indent="-315720">
              <a:spcBef>
                <a:spcPts val="40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5" marL="2241000" indent="-315720">
              <a:spcBef>
                <a:spcPts val="40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6" marL="2241000" indent="-315720">
              <a:spcBef>
                <a:spcPts val="40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88840" y="151920"/>
            <a:ext cx="7366320" cy="17780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888840" y="2069640"/>
            <a:ext cx="7366320" cy="403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 fontScale="95000"/>
          </a:bodyPr>
          <a:p>
            <a:pPr marL="624240" indent="-322560">
              <a:spcBef>
                <a:spcPts val="21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1" marL="1034280" indent="-322560">
              <a:spcBef>
                <a:spcPts val="21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2" marL="1432440" indent="-322200">
              <a:spcBef>
                <a:spcPts val="21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3" marL="1854720" indent="-322560">
              <a:spcBef>
                <a:spcPts val="21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4" marL="2289240" indent="-322560">
              <a:spcBef>
                <a:spcPts val="21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5" marL="2289240" indent="-322560">
              <a:spcBef>
                <a:spcPts val="21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6" marL="2289240" indent="-322560">
              <a:spcBef>
                <a:spcPts val="21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88840" y="5181120"/>
            <a:ext cx="7366320" cy="1295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88840" y="2540160"/>
            <a:ext cx="7366320" cy="1777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body"/>
          </p:nvPr>
        </p:nvSpPr>
        <p:spPr>
          <a:xfrm>
            <a:off x="418680" y="3479760"/>
            <a:ext cx="4241880" cy="2146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9000"/>
          </a:bodyPr>
          <a:p>
            <a:pPr marL="30528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  <a:p>
            <a:pPr lvl="1" marL="305280" indent="-305280" algn="ctr">
              <a:buClr>
                <a:srgbClr val="ffffff"/>
              </a:buClr>
              <a:buFont typeface="Chalkboard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  <a:p>
            <a:pPr lvl="2" marL="305280" indent="-305280" algn="ctr">
              <a:buClr>
                <a:srgbClr val="ffffff"/>
              </a:buClr>
              <a:buFont typeface="Chalkboard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  <a:p>
            <a:pPr lvl="3" marL="305280" indent="-305280" algn="ctr">
              <a:buClr>
                <a:srgbClr val="ffffff"/>
              </a:buClr>
              <a:buFont typeface="Chalkboard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  <a:p>
            <a:pPr lvl="4" marL="305280" indent="-305280" algn="ctr">
              <a:buClr>
                <a:srgbClr val="ffffff"/>
              </a:buClr>
              <a:buFont typeface="Chalkboar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  <a:p>
            <a:pPr lvl="5" marL="305280" indent="-305280" algn="ctr">
              <a:buClr>
                <a:srgbClr val="ffffff"/>
              </a:buClr>
              <a:buFont typeface="Chalkboar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  <a:p>
            <a:pPr lvl="6" marL="305280" indent="-305280" algn="ctr">
              <a:buClr>
                <a:srgbClr val="ffffff"/>
              </a:buClr>
              <a:buFont typeface="Chalkboard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title"/>
          </p:nvPr>
        </p:nvSpPr>
        <p:spPr>
          <a:xfrm>
            <a:off x="418680" y="1257120"/>
            <a:ext cx="4241880" cy="21459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88840" y="151920"/>
            <a:ext cx="7366320" cy="17780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88840" y="151920"/>
            <a:ext cx="7366320" cy="17780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888840" y="2069640"/>
            <a:ext cx="3594240" cy="403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 fontScale="77000"/>
          </a:bodyPr>
          <a:p>
            <a:pPr marL="488880" indent="-244440">
              <a:spcBef>
                <a:spcPts val="22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  <a:p>
            <a:pPr lvl="1" marL="821160" indent="-244440">
              <a:spcBef>
                <a:spcPts val="22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  <a:p>
            <a:pPr lvl="2" marL="1144080" indent="-244440">
              <a:spcBef>
                <a:spcPts val="22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  <a:p>
            <a:pPr lvl="3" marL="1486080" indent="-244440">
              <a:spcBef>
                <a:spcPts val="22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  <a:p>
            <a:pPr lvl="4" marL="1838160" indent="-244440">
              <a:spcBef>
                <a:spcPts val="22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  <a:p>
            <a:pPr lvl="5" marL="1838160" indent="-244440">
              <a:spcBef>
                <a:spcPts val="22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  <a:p>
            <a:pPr lvl="6" marL="1838160" indent="-244440">
              <a:spcBef>
                <a:spcPts val="22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88840" y="151920"/>
            <a:ext cx="7366320" cy="17780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Chalkboard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888840" y="2069640"/>
            <a:ext cx="7366320" cy="403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635040" indent="-317520">
              <a:spcBef>
                <a:spcPts val="22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halkboard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  <a:p>
            <a:pPr lvl="1" marL="1066680" indent="-317520">
              <a:spcBef>
                <a:spcPts val="22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halkboard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  <a:p>
            <a:pPr lvl="2" marL="1486080" indent="-317520">
              <a:spcBef>
                <a:spcPts val="22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halkboard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  <a:p>
            <a:pPr lvl="3" marL="1930320" indent="-317520">
              <a:spcBef>
                <a:spcPts val="22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halkboar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  <a:p>
            <a:pPr lvl="4" marL="2387520" indent="-317520">
              <a:spcBef>
                <a:spcPts val="22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halkboar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  <a:p>
            <a:pPr lvl="5" marL="2387520" indent="-317520">
              <a:spcBef>
                <a:spcPts val="22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halkboar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  <a:p>
            <a:pPr lvl="6" marL="2387520" indent="-317520">
              <a:spcBef>
                <a:spcPts val="2299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halkboar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1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888840" y="1802880"/>
            <a:ext cx="7366320" cy="17780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NA and Protein Synthesis</a:t>
            </a:r>
            <a:endParaRPr b="0" lang="en-US" sz="72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888840" y="3657600"/>
            <a:ext cx="7366320" cy="1028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Mr. Cobb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GCA Fall 2011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736596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Chalkboard"/>
              </a:rPr>
              <a:t>If you are looking at:</a:t>
            </a:r>
            <a:endParaRPr b="0" lang="en-US" sz="50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695160" indent="-342720">
              <a:buSzPct val="1028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halkboard"/>
              </a:rPr>
              <a:t>A strand of bases and you are told to identify them as DNA or RNA,</a:t>
            </a:r>
            <a:endParaRPr b="0" lang="en-US" sz="4000" spc="-1" strike="noStrike">
              <a:solidFill>
                <a:srgbClr val="ffffff"/>
              </a:solidFill>
              <a:latin typeface="Chalkboard"/>
            </a:endParaRPr>
          </a:p>
          <a:p>
            <a:pPr marL="695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halkboard"/>
            </a:endParaRPr>
          </a:p>
          <a:p>
            <a:pPr marL="695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halkboard"/>
            </a:endParaRPr>
          </a:p>
          <a:p>
            <a:pPr marL="695160" indent="-342720">
              <a:buSzPct val="1028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halkboard"/>
              </a:rPr>
              <a:t>IF you see Uracil, you will </a:t>
            </a:r>
            <a:r>
              <a:rPr b="1" i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NOW </a:t>
            </a:r>
            <a:r>
              <a:rPr b="0" lang="en-US" sz="4000" spc="-1" strike="noStrike">
                <a:solidFill>
                  <a:srgbClr val="ffffff"/>
                </a:solidFill>
                <a:latin typeface="Chalkboard"/>
              </a:rPr>
              <a:t>that it is RNA!!!</a:t>
            </a:r>
            <a:endParaRPr b="0" lang="en-US" sz="40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0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888840" y="151920"/>
            <a:ext cx="7366320" cy="17780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Chalkboard"/>
              </a:rPr>
              <a:t>WHY TALK ABOUT PROTEIN SYNTHESIS</a:t>
            </a:r>
            <a:endParaRPr b="0" lang="en-US" sz="50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-360" y="2070000"/>
            <a:ext cx="8991720" cy="4788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657360" indent="-339840">
              <a:spcBef>
                <a:spcPts val="21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CELL FUNCTIONS DEPEND ON ENZYMES (BIOLOGICAL CATALYST), WHICH ARE PROTEINS!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marL="657360" indent="0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marL="657360" indent="-339840">
              <a:spcBef>
                <a:spcPts val="21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MOST SUBSTANCES MADE BY CELLS CONTAIN A PROTEIN.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marL="657360" indent="0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marL="657360" indent="-339840">
              <a:spcBef>
                <a:spcPts val="21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UNDERSTANDING THIS PROCESS, SCIENTISTS CAN MAKE CHANGES TO WHAT PROTEINS ARE PRODUCED (ANTIBIOTICS)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900" fill="hold"/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4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4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900" fill="hold"/>
                                        <p:tgtEl>
                                          <p:spTgt spid="4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4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4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900" fill="hold"/>
                                        <p:tgtEl>
                                          <p:spTgt spid="4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888840" y="151920"/>
            <a:ext cx="7366320" cy="17780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Chalkboard"/>
              </a:rPr>
              <a:t>PROTEIN REVIEW</a:t>
            </a:r>
            <a:endParaRPr b="0" lang="en-US" sz="50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888840" y="2069640"/>
            <a:ext cx="7366320" cy="403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657360" indent="-339840">
              <a:spcBef>
                <a:spcPts val="21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POLYPEPTIDE CHAINS OF AMINO ACIDS (AA)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marL="657360" indent="-339840">
              <a:spcBef>
                <a:spcPts val="21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21 AMINO ACIDS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marL="657360" indent="-339840">
              <a:spcBef>
                <a:spcPts val="21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2 THINGS MUST BE CORRECT FOR PROTEIN TO BE FUNCTIONAL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marL="657360" indent="-339840">
              <a:spcBef>
                <a:spcPts val="21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1.  SEQUENCE OF AA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marL="657360" indent="-339840">
              <a:spcBef>
                <a:spcPts val="21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2.  SHAPE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9" dur="500"/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4" dur="500"/>
                                        <p:tgtEl>
                                          <p:spTgt spid="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9" dur="500"/>
                                        <p:tgtEl>
                                          <p:spTgt spid="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4" dur="500"/>
                                        <p:tgtEl>
                                          <p:spTgt spid="4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9" dur="500"/>
                                        <p:tgtEl>
                                          <p:spTgt spid="4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888840" y="151920"/>
            <a:ext cx="7366320" cy="17780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Chalkboard"/>
              </a:rPr>
              <a:t>PROTEIN SYNTHESIS</a:t>
            </a:r>
            <a:endParaRPr b="0" lang="en-US" sz="50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888840" y="2069640"/>
            <a:ext cx="7366320" cy="403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657360" indent="0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marL="657360" indent="0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THE CELL CAN MAKE THOUSANDS OF DIFFERENT PROTEINS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marL="657360" indent="0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OR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marL="657360" indent="0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THE CELL CAN MAKE THOUSANDS OF THE SAME PROTEIN.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6" dur="500"/>
                                        <p:tgtEl>
                                          <p:spTgt spid="4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1" dur="500"/>
                                        <p:tgtEl>
                                          <p:spTgt spid="4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6" dur="500"/>
                                        <p:tgtEl>
                                          <p:spTgt spid="4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888840" y="151920"/>
            <a:ext cx="7366320" cy="17780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Chalkboard"/>
              </a:rPr>
              <a:t>PROTEIN SYNTHESIS STEPS</a:t>
            </a:r>
            <a:endParaRPr b="0" lang="en-US" sz="50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87" name=""/>
          <p:cNvSpPr txBox="1"/>
          <p:nvPr/>
        </p:nvSpPr>
        <p:spPr>
          <a:xfrm>
            <a:off x="888840" y="2069640"/>
            <a:ext cx="7366320" cy="403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657360" indent="-339840">
              <a:spcBef>
                <a:spcPts val="21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2 STEPS to making Proteins: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1089000" indent="-339840">
              <a:spcBef>
                <a:spcPts val="21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halkboard"/>
              </a:rPr>
              <a:t>STEP 1 TRANSCRIPTION:  Getting the information from the DNA copied onto a mRNA strand.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1089000" indent="-339840">
              <a:spcBef>
                <a:spcPts val="21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halkboard"/>
              </a:rPr>
              <a:t>STEP 2 TRANSLATION:  The mRNA strand goes out to a ribosome and builds a AA strand with the help of tRNA.  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4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4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4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4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halkboard"/>
              </a:rPr>
              <a:t>Protein Synthesis in a nutshell</a:t>
            </a:r>
            <a:endParaRPr b="0" lang="en-US" sz="4800" spc="-1" strike="noStrike">
              <a:solidFill>
                <a:srgbClr val="ffffff"/>
              </a:solidFill>
              <a:latin typeface="Chalkboard"/>
            </a:endParaRPr>
          </a:p>
        </p:txBody>
      </p:sp>
      <p:pic>
        <p:nvPicPr>
          <p:cNvPr id="489" name="Picture 2" descr=""/>
          <p:cNvPicPr/>
          <p:nvPr/>
        </p:nvPicPr>
        <p:blipFill>
          <a:blip r:embed="rId1"/>
          <a:stretch/>
        </p:blipFill>
        <p:spPr>
          <a:xfrm>
            <a:off x="1751040" y="1370160"/>
            <a:ext cx="5487840" cy="5487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888840" y="151920"/>
            <a:ext cx="7366320" cy="17780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Chalkboard"/>
              </a:rPr>
              <a:t>Here’s a better look:</a:t>
            </a:r>
            <a:endParaRPr b="0" lang="en-US" sz="5000" spc="-1" strike="noStrike">
              <a:solidFill>
                <a:srgbClr val="ffffff"/>
              </a:solidFill>
              <a:latin typeface="Chalkboard"/>
            </a:endParaRPr>
          </a:p>
        </p:txBody>
      </p:sp>
      <p:pic>
        <p:nvPicPr>
          <p:cNvPr id="491" name="Picture 2" descr=""/>
          <p:cNvPicPr/>
          <p:nvPr/>
        </p:nvPicPr>
        <p:blipFill>
          <a:blip r:embed="rId1"/>
          <a:stretch/>
        </p:blipFill>
        <p:spPr>
          <a:xfrm>
            <a:off x="685800" y="1676520"/>
            <a:ext cx="7772400" cy="5181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0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888840" y="151920"/>
            <a:ext cx="7366320" cy="17780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Chalkboard"/>
              </a:rPr>
              <a:t>THE CODE OF LIFE</a:t>
            </a:r>
            <a:endParaRPr b="0" lang="en-US" sz="50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0" y="1523520"/>
            <a:ext cx="9144000" cy="5334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657360" indent="0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marL="657360" indent="-339840">
              <a:spcBef>
                <a:spcPts val="21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COMPARE TO ALPHABET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657360" indent="0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657360" indent="-339840">
              <a:spcBef>
                <a:spcPts val="21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DNA’S CODE IS THE 4 NUCLEOTIDE BASES OF ADENINE, GUANINE, CYTOSINE, AND THYMINE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657360" indent="0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657360" indent="-339840">
              <a:spcBef>
                <a:spcPts val="21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halkboard"/>
              </a:rPr>
              <a:t>THREE OF THESE BASES COME TOGETHER TO MAKE A CODE FOR AN AMINO ACID.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5" dur="500"/>
                                        <p:tgtEl>
                                          <p:spTgt spid="4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0" dur="500"/>
                                        <p:tgtEl>
                                          <p:spTgt spid="4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5" dur="500"/>
                                        <p:tgtEl>
                                          <p:spTgt spid="4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888840" y="151920"/>
            <a:ext cx="7366320" cy="17780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Chalkboard"/>
              </a:rPr>
              <a:t>THE CODE OF LIFE</a:t>
            </a:r>
            <a:endParaRPr b="0" lang="en-US" sz="50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888840" y="2069640"/>
            <a:ext cx="7366320" cy="403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657360" indent="-339840">
              <a:spcBef>
                <a:spcPts val="21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REE BASES MAKE A CODON.  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lvl="1" marL="1089000" indent="-339840">
              <a:spcBef>
                <a:spcPts val="21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(THINK OF IT AS A 3 LETTER WORD MEANING A SPECIFIC AMINO ACID)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657360" indent="-339840">
              <a:spcBef>
                <a:spcPts val="21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A CODON CODES FOR A SPECIFIC AA.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657360"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2" dur="2000"/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5" dur="2000"/>
                                        <p:tgtEl>
                                          <p:spTgt spid="4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0" dur="2000"/>
                                        <p:tgtEl>
                                          <p:spTgt spid="4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888840" y="151920"/>
            <a:ext cx="7366320" cy="17780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Chalkboard"/>
              </a:rPr>
              <a:t>THE CODE OF LIFE</a:t>
            </a:r>
            <a:endParaRPr b="0" lang="en-US" sz="50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0" y="2069640"/>
            <a:ext cx="9144000" cy="403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99000"/>
          </a:bodyPr>
          <a:p>
            <a:pPr marL="650520" indent="-336240">
              <a:spcBef>
                <a:spcPts val="21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COMPARE TO THE ALPHABET CODE WE DISCUSSED.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1" marL="1077840" indent="-336240">
              <a:spcBef>
                <a:spcPts val="21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EX.  THE DOG CAN RUN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marL="650520" indent="-336240">
              <a:spcBef>
                <a:spcPts val="21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EACH LETTER IS A NUCLEOTIDE BASE.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marL="650520" indent="-336240">
              <a:spcBef>
                <a:spcPts val="21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EACH THREE LETTER WORD IS A CODON THAT CODES FOR A SPECIFIC AMINO ACID.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marL="650520" indent="-336240">
              <a:spcBef>
                <a:spcPts val="21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A STRING OF AMINO ACIDS MAKE A FUNCTIONAL PROTEIN, JUST LIKE A STRING OF WORDS MAKE A SENTENCE. 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4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" dur="500"/>
                                        <p:tgtEl>
                                          <p:spTgt spid="4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4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4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" dur="500"/>
                                        <p:tgtEl>
                                          <p:spTgt spid="4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888840" y="1802880"/>
            <a:ext cx="7366320" cy="17780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Chalkboard"/>
            </a:endParaRPr>
          </a:p>
        </p:txBody>
      </p:sp>
      <p:pic>
        <p:nvPicPr>
          <p:cNvPr id="460" name="Content Placeholder 5" descr="3549_1600x1200-wallpaper-cb1267712038.jpg"/>
          <p:cNvPicPr/>
          <p:nvPr/>
        </p:nvPicPr>
        <p:blipFill>
          <a:blip r:embed="rId1"/>
          <a:srcRect l="-9132" t="0" r="-9132" b="0"/>
          <a:stretch/>
        </p:blipFill>
        <p:spPr>
          <a:xfrm>
            <a:off x="-828720" y="0"/>
            <a:ext cx="10734840" cy="734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888840" y="151920"/>
            <a:ext cx="7366320" cy="17780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Chalkboard"/>
              </a:rPr>
              <a:t>THE CODE OF LIFE</a:t>
            </a:r>
            <a:endParaRPr b="0" lang="en-US" sz="50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837720" y="1447560"/>
            <a:ext cx="7365960" cy="4787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657360" indent="-339840">
              <a:spcBef>
                <a:spcPts val="21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LETS SEE WHY THE SEQUENCE IS IMPORTANT!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marL="657360" indent="-339840">
              <a:spcBef>
                <a:spcPts val="21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THE RUN CAN DOG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marL="657360" indent="-339840">
              <a:spcBef>
                <a:spcPts val="21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ONE AMINO ACID CHANGE CAN CHANGE THE PROTEIN, JUST LIKE ONE WORD CAN CHANGE THE SENTENCE.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marL="657360" indent="-339840">
              <a:spcBef>
                <a:spcPts val="21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THE CAT CAN RUN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marL="657360" indent="-339840">
              <a:spcBef>
                <a:spcPts val="21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THE DOG CAN SIT 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marL="657360" indent="-339840">
              <a:spcBef>
                <a:spcPts val="21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THE DOG CAN HOP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12" dur="2000"/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17" dur="2000"/>
                                        <p:tgtEl>
                                          <p:spTgt spid="4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22" dur="2000"/>
                                        <p:tgtEl>
                                          <p:spTgt spid="4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27" dur="2000"/>
                                        <p:tgtEl>
                                          <p:spTgt spid="4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32" dur="2000"/>
                                        <p:tgtEl>
                                          <p:spTgt spid="4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37" dur="2000"/>
                                        <p:tgtEl>
                                          <p:spTgt spid="4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417320" y="152280"/>
            <a:ext cx="6350040" cy="10670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Chalkboard"/>
              </a:rPr>
              <a:t>Amino Acid Chart</a:t>
            </a:r>
            <a:endParaRPr b="0" lang="en-US" sz="50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888840" y="2069640"/>
            <a:ext cx="7366320" cy="403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 anchorCtr="1" vert="eaVer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  <p:pic>
        <p:nvPicPr>
          <p:cNvPr id="502" name="Picture 5" descr="C:\Documents and Settings\jcobb\Desktop\imgres.png"/>
          <p:cNvPicPr/>
          <p:nvPr/>
        </p:nvPicPr>
        <p:blipFill>
          <a:blip r:embed="rId1"/>
          <a:stretch/>
        </p:blipFill>
        <p:spPr>
          <a:xfrm>
            <a:off x="-609480" y="1066680"/>
            <a:ext cx="10591560" cy="592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888840" y="151920"/>
            <a:ext cx="7366320" cy="1295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Chalkboard"/>
              </a:rPr>
              <a:t>Amino Acids</a:t>
            </a:r>
            <a:endParaRPr b="0" lang="en-US" sz="50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-152640" y="1371600"/>
            <a:ext cx="9296280" cy="54864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657360" indent="0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There are 21 Amino Acids, but as you can see 64 combinations.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657360" indent="0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657360" indent="0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o, there are multiple codons per amino acid.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657360" indent="0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  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657360" indent="0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Also “stop” and “start” codons.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657360" indent="0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4" dur="2000"/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9" dur="2000"/>
                                        <p:tgtEl>
                                          <p:spTgt spid="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4" dur="2000"/>
                                        <p:tgtEl>
                                          <p:spTgt spid="5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9" dur="2000"/>
                                        <p:tgtEl>
                                          <p:spTgt spid="5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888840" y="151920"/>
            <a:ext cx="7366320" cy="17780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Chalkboard"/>
              </a:rPr>
              <a:t>3 kinds of RNA:</a:t>
            </a:r>
            <a:endParaRPr b="0" lang="en-US" sz="50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0" y="1523520"/>
            <a:ext cx="9144000" cy="5334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695160" indent="-339480">
              <a:spcBef>
                <a:spcPts val="21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Ribosomal RNA (rRNA) –makes up ribosomes 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695160" indent="-339480">
              <a:spcBef>
                <a:spcPts val="21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Messenger RNA (mRNA)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695160" indent="-339480">
              <a:spcBef>
                <a:spcPts val="21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Transfer RNA (tRNA)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07" name="AutoShape 3"/>
          <p:cNvSpPr/>
          <p:nvPr/>
        </p:nvSpPr>
        <p:spPr>
          <a:xfrm>
            <a:off x="7542360" y="3657600"/>
            <a:ext cx="380880" cy="379440"/>
          </a:xfrm>
          <a:custGeom>
            <a:avLst/>
            <a:gdLst>
              <a:gd name="textAreaLeft" fmla="*/ 0 w 380880"/>
              <a:gd name="textAreaRight" fmla="*/ 381240 w 380880"/>
              <a:gd name="textAreaTop" fmla="*/ 0 h 379440"/>
              <a:gd name="textAreaBottom" fmla="*/ 379800 h 379440"/>
            </a:gdLst>
            <a:ahLst/>
            <a:rect l="textAreaLeft" t="textAreaTop" r="textAreaRight" b="textAreaBottom"/>
            <a:pathLst>
              <a:path w="381000" h="379413">
                <a:moveTo>
                  <a:pt x="0" y="144923"/>
                </a:moveTo>
                <a:lnTo>
                  <a:pt x="145530" y="144924"/>
                </a:lnTo>
                <a:lnTo>
                  <a:pt x="190500" y="0"/>
                </a:lnTo>
                <a:lnTo>
                  <a:pt x="235470" y="144924"/>
                </a:lnTo>
                <a:lnTo>
                  <a:pt x="381000" y="144923"/>
                </a:lnTo>
                <a:lnTo>
                  <a:pt x="263263" y="234489"/>
                </a:lnTo>
                <a:lnTo>
                  <a:pt x="308235" y="379412"/>
                </a:lnTo>
                <a:lnTo>
                  <a:pt x="190500" y="289844"/>
                </a:lnTo>
                <a:lnTo>
                  <a:pt x="72765" y="379412"/>
                </a:lnTo>
                <a:lnTo>
                  <a:pt x="117737" y="234489"/>
                </a:lnTo>
                <a:lnTo>
                  <a:pt x="0" y="144923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08" name="AutoShape 4"/>
          <p:cNvSpPr/>
          <p:nvPr/>
        </p:nvSpPr>
        <p:spPr>
          <a:xfrm>
            <a:off x="6856560" y="4495680"/>
            <a:ext cx="380880" cy="379440"/>
          </a:xfrm>
          <a:custGeom>
            <a:avLst/>
            <a:gdLst>
              <a:gd name="textAreaLeft" fmla="*/ 0 w 380880"/>
              <a:gd name="textAreaRight" fmla="*/ 381240 w 380880"/>
              <a:gd name="textAreaTop" fmla="*/ 0 h 379440"/>
              <a:gd name="textAreaBottom" fmla="*/ 379800 h 379440"/>
            </a:gdLst>
            <a:ahLst/>
            <a:rect l="textAreaLeft" t="textAreaTop" r="textAreaRight" b="textAreaBottom"/>
            <a:pathLst>
              <a:path w="381000" h="379413">
                <a:moveTo>
                  <a:pt x="0" y="144923"/>
                </a:moveTo>
                <a:lnTo>
                  <a:pt x="145530" y="144924"/>
                </a:lnTo>
                <a:lnTo>
                  <a:pt x="190500" y="0"/>
                </a:lnTo>
                <a:lnTo>
                  <a:pt x="235470" y="144924"/>
                </a:lnTo>
                <a:lnTo>
                  <a:pt x="381000" y="144923"/>
                </a:lnTo>
                <a:lnTo>
                  <a:pt x="263263" y="234489"/>
                </a:lnTo>
                <a:lnTo>
                  <a:pt x="308235" y="379412"/>
                </a:lnTo>
                <a:lnTo>
                  <a:pt x="190500" y="289844"/>
                </a:lnTo>
                <a:lnTo>
                  <a:pt x="72765" y="379412"/>
                </a:lnTo>
                <a:lnTo>
                  <a:pt x="117737" y="234489"/>
                </a:lnTo>
                <a:lnTo>
                  <a:pt x="0" y="144923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nodeType="clickEffect" fill="hold">
                      <p:stCondLst>
                        <p:cond delay="0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2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Chalkboard"/>
              </a:rPr>
              <a:t>Why do we need RNA?</a:t>
            </a:r>
            <a:endParaRPr b="0" lang="en-US" sz="50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695160" indent="-339480">
              <a:lnSpc>
                <a:spcPct val="90000"/>
              </a:lnSpc>
              <a:spcBef>
                <a:spcPts val="21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RNA is the key mechanism behind: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695160"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          </a:t>
            </a: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PROTEIN SYNTHESIS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695160" indent="-339480">
              <a:lnSpc>
                <a:spcPct val="90000"/>
              </a:lnSpc>
              <a:spcBef>
                <a:spcPts val="21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Your characteristics are determined largely by the kinds of 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teins </a:t>
            </a: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your cells make out of amino acids.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nodeType="clickEffect" fill="hold">
                      <p:stCondLst>
                        <p:cond delay="0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Chalkboard"/>
              </a:rPr>
              <a:t>PROTEIN SYNTHESIS</a:t>
            </a:r>
            <a:endParaRPr b="0" lang="en-US" sz="50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695160" indent="-339480">
              <a:spcBef>
                <a:spcPts val="21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Where are proteins made?  What organelle?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695160" indent="0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695160" indent="-339480">
              <a:spcBef>
                <a:spcPts val="21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Where are ribosomes located?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695160" indent="0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695160" indent="-339480">
              <a:spcBef>
                <a:spcPts val="21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Where are the directions for making proteins found?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nodeType="clickEffect" fill="hold">
                      <p:stCondLst>
                        <p:cond delay="0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16" dur="500"/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21" dur="500"/>
                                        <p:tgtEl>
                                          <p:spTgt spid="5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26" dur="500"/>
                                        <p:tgtEl>
                                          <p:spTgt spid="5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7924680" cy="3429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halkboard"/>
              </a:rPr>
              <a:t>OK, if the directions are in the nucleus, but the ribosomes are in the cytoplasm or on the E.R., </a:t>
            </a:r>
            <a:endParaRPr b="0" lang="en-US" sz="40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85800" y="350496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695160" indent="-339480">
              <a:spcBef>
                <a:spcPts val="21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halkboard"/>
              </a:rPr>
              <a:t>How do the directions get to the ribosomes????</a:t>
            </a:r>
            <a:endParaRPr b="0" lang="en-US" sz="40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nodeType="clickEffect" fill="hold">
                      <p:stCondLst>
                        <p:cond delay="0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888840" y="151920"/>
            <a:ext cx="7366320" cy="17780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halkboard"/>
              </a:rPr>
              <a:t>That’s why we need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Chalkboard"/>
              </a:rPr>
              <a:t>messenger RNA (mRNA)</a:t>
            </a:r>
            <a:endParaRPr b="0" lang="en-US" sz="4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888840" y="2069640"/>
            <a:ext cx="7366320" cy="403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695160" indent="-339480">
              <a:lnSpc>
                <a:spcPct val="80000"/>
              </a:lnSpc>
              <a:spcBef>
                <a:spcPts val="21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mRNA is made in a process called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NSCRIPTION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695160" indent="-339480">
              <a:lnSpc>
                <a:spcPct val="80000"/>
              </a:lnSpc>
              <a:spcBef>
                <a:spcPts val="2100"/>
              </a:spcBef>
              <a:buClr>
                <a:srgbClr val="ffffff"/>
              </a:buClr>
              <a:buSzPct val="66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nscription</a:t>
            </a: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 is “the process of copying the DNA code onto a strand of mRNA”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695160" indent="-339480">
              <a:lnSpc>
                <a:spcPct val="80000"/>
              </a:lnSpc>
              <a:spcBef>
                <a:spcPts val="21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-scribe” means “write” so the code is copied or written onto mRNA during tran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ript</a:t>
            </a: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ion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nodeType="clickEffect" fill="hold">
                      <p:stCondLst>
                        <p:cond delay="0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Chalkboard"/>
              </a:rPr>
              <a:t>mRNA</a:t>
            </a:r>
            <a:endParaRPr b="0" lang="en-US" sz="50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695160" indent="-339480">
              <a:lnSpc>
                <a:spcPct val="90000"/>
              </a:lnSpc>
              <a:spcBef>
                <a:spcPts val="21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halkboard"/>
              </a:rPr>
              <a:t>Is made from a DNA strand pattern.</a:t>
            </a:r>
            <a:endParaRPr b="0" lang="en-US" sz="4000" spc="-1" strike="noStrike">
              <a:solidFill>
                <a:srgbClr val="ffffff"/>
              </a:solidFill>
              <a:latin typeface="Chalkboard"/>
            </a:endParaRPr>
          </a:p>
          <a:p>
            <a:pPr marL="695160" indent="-339480">
              <a:lnSpc>
                <a:spcPct val="90000"/>
              </a:lnSpc>
              <a:spcBef>
                <a:spcPts val="21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halkboard"/>
              </a:rPr>
              <a:t>DNA “unzips” just the section that codes the directions for the needed protein.</a:t>
            </a:r>
            <a:endParaRPr b="0" lang="en-US" sz="4000" spc="-1" strike="noStrike">
              <a:solidFill>
                <a:srgbClr val="ffffff"/>
              </a:solidFill>
              <a:latin typeface="Chalkboard"/>
            </a:endParaRPr>
          </a:p>
          <a:p>
            <a:pPr marL="695160" indent="-339480">
              <a:lnSpc>
                <a:spcPct val="90000"/>
              </a:lnSpc>
              <a:spcBef>
                <a:spcPts val="21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halkboard"/>
              </a:rPr>
              <a:t>RNA nucleotides come in and bind with the DNA nitrogen bases</a:t>
            </a:r>
            <a:endParaRPr b="0" lang="en-US" sz="40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nodeType="clickEffect" fill="hold">
                      <p:stCondLst>
                        <p:cond delay="0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Chalkboard"/>
              </a:rPr>
              <a:t>So, </a:t>
            </a:r>
            <a:r>
              <a:rPr b="1" i="1" lang="en-US" sz="50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ranscription</a:t>
            </a:r>
            <a:r>
              <a:rPr b="0" lang="en-US" sz="5000" spc="-1" strike="noStrike">
                <a:solidFill>
                  <a:srgbClr val="ffffff"/>
                </a:solidFill>
                <a:latin typeface="Chalkboard"/>
              </a:rPr>
              <a:t> is</a:t>
            </a:r>
            <a:endParaRPr b="0" lang="en-US" sz="50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695160" indent="-339480">
              <a:spcBef>
                <a:spcPts val="21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Writing” the mRNA code from a strand of DNA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695160" indent="-339480">
              <a:spcBef>
                <a:spcPts val="21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Occurs in the nucleus so the message can be sent from DNA to the ribosomes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695160" indent="-339480">
              <a:spcBef>
                <a:spcPts val="21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DNA never leaves nucleus!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nodeType="clickEffect" fill="hold">
                      <p:stCondLst>
                        <p:cond delay="0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888840" y="1802880"/>
            <a:ext cx="7366320" cy="17780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Chalkboard"/>
            </a:endParaRPr>
          </a:p>
        </p:txBody>
      </p:sp>
      <p:pic>
        <p:nvPicPr>
          <p:cNvPr id="462" name="" descr=""/>
          <p:cNvPicPr/>
          <p:nvPr/>
        </p:nvPicPr>
        <p:blipFill>
          <a:blip r:embed="rId1"/>
          <a:stretch/>
        </p:blipFill>
        <p:spPr>
          <a:xfrm>
            <a:off x="888840" y="3657600"/>
            <a:ext cx="7366320" cy="1028880"/>
          </a:xfrm>
          <a:prstGeom prst="rect">
            <a:avLst/>
          </a:prstGeom>
          <a:ln w="0">
            <a:noFill/>
          </a:ln>
        </p:spPr>
      </p:pic>
      <p:pic>
        <p:nvPicPr>
          <p:cNvPr id="463" name="Picture 3" descr="BestAnimalsPhotosForTheYear20102_12.jpg"/>
          <p:cNvPicPr/>
          <p:nvPr/>
        </p:nvPicPr>
        <p:blipFill>
          <a:blip r:embed="rId2"/>
          <a:stretch/>
        </p:blipFill>
        <p:spPr>
          <a:xfrm>
            <a:off x="-533520" y="0"/>
            <a:ext cx="10336320" cy="7219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888840" y="151920"/>
            <a:ext cx="7366320" cy="17780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Chalkboard"/>
              </a:rPr>
              <a:t>Cool facts about mRNA</a:t>
            </a:r>
            <a:endParaRPr b="0" lang="en-US" sz="50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22" name=""/>
          <p:cNvSpPr txBox="1"/>
          <p:nvPr/>
        </p:nvSpPr>
        <p:spPr>
          <a:xfrm>
            <a:off x="888840" y="2069640"/>
            <a:ext cx="7366320" cy="403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657360" indent="-339840">
              <a:spcBef>
                <a:spcPts val="21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mRNA has a “cap” on one end and a Poly A tail on the other end.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marL="657360" indent="-339840">
              <a:spcBef>
                <a:spcPts val="21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There are parts that are not used caused “introns” that are edited out before the mRNA gets to the ribosomes.  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marL="657360" indent="-339840">
              <a:spcBef>
                <a:spcPts val="21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The “exons” are the parts that are not edited out and thus used to make the protein.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7" dur="2000"/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2" dur="2000"/>
                                        <p:tgtEl>
                                          <p:spTgt spid="5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7" dur="2000"/>
                                        <p:tgtEl>
                                          <p:spTgt spid="5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888840" y="151920"/>
            <a:ext cx="7366320" cy="17780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Chalkboard"/>
              </a:rPr>
              <a:t>Here’s a better look:</a:t>
            </a:r>
            <a:endParaRPr b="0" lang="en-US" sz="5000" spc="-1" strike="noStrike">
              <a:solidFill>
                <a:srgbClr val="ffffff"/>
              </a:solidFill>
              <a:latin typeface="Chalkboard"/>
            </a:endParaRPr>
          </a:p>
        </p:txBody>
      </p:sp>
      <p:pic>
        <p:nvPicPr>
          <p:cNvPr id="524" name="Picture 2" descr=""/>
          <p:cNvPicPr/>
          <p:nvPr/>
        </p:nvPicPr>
        <p:blipFill>
          <a:blip r:embed="rId1"/>
          <a:stretch/>
        </p:blipFill>
        <p:spPr>
          <a:xfrm>
            <a:off x="685800" y="1676520"/>
            <a:ext cx="7772400" cy="5181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08" dur="indefinite" restart="never" nodeType="tmRoot">
          <p:childTnLst>
            <p:seq>
              <p:cTn id="509" dur="indefinite" nodeType="mainSeq">
                <p:childTnLst>
                  <p:par>
                    <p:cTn id="510" nodeType="clickEffect" fill="hold">
                      <p:stCondLst>
                        <p:cond delay="0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888840" y="151920"/>
            <a:ext cx="7366320" cy="17780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halkboard"/>
              </a:rPr>
              <a:t>Now that we have our message,</a:t>
            </a:r>
            <a:endParaRPr b="0" lang="en-US" sz="4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888840" y="2069640"/>
            <a:ext cx="7366320" cy="403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695160" indent="-339480">
              <a:spcBef>
                <a:spcPts val="21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e mRNA can move through the nuclear pores to go to ribosomes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695160" indent="-339480">
              <a:spcBef>
                <a:spcPts val="21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Ribosomes will “read” the mRNA to build a protein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nodeType="clickEffect" fill="hold">
                      <p:stCondLst>
                        <p:cond delay="0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382240" cy="1600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Chalkboard"/>
              </a:rPr>
              <a:t>mRNA moves to ribosome</a:t>
            </a:r>
            <a:endParaRPr b="0" lang="en-US" sz="50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888840" y="2069640"/>
            <a:ext cx="7366320" cy="403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695160" indent="-339480">
              <a:lnSpc>
                <a:spcPct val="90000"/>
              </a:lnSpc>
              <a:spcBef>
                <a:spcPts val="21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mRNA is read 3 letters at a time—</a:t>
            </a: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odons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695160" indent="-339480">
              <a:lnSpc>
                <a:spcPct val="90000"/>
              </a:lnSpc>
              <a:spcBef>
                <a:spcPts val="21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o, in our example, the first codon would be </a:t>
            </a:r>
            <a:r>
              <a:rPr b="0" lang="en-US" sz="3200" spc="-1" strike="noStrike">
                <a:solidFill>
                  <a:srgbClr val="33cc33"/>
                </a:solidFill>
                <a:latin typeface="Chalkboard"/>
              </a:rPr>
              <a:t>GUA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695160" indent="-339480">
              <a:lnSpc>
                <a:spcPct val="90000"/>
              </a:lnSpc>
              <a:spcBef>
                <a:spcPts val="21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Codons become important in the next step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nodeType="clickEffect" fill="hold">
                      <p:stCondLst>
                        <p:cond delay="0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halkboard"/>
              </a:rPr>
              <a:t>When mRNA gets to the ribosome: </a:t>
            </a:r>
            <a:endParaRPr b="0" lang="en-US" sz="4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4267080" cy="50292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695160" indent="-339480">
              <a:lnSpc>
                <a:spcPct val="90000"/>
              </a:lnSpc>
              <a:spcBef>
                <a:spcPts val="21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he third kind of RNA comes into play.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695160" indent="-339480">
              <a:lnSpc>
                <a:spcPct val="90000"/>
              </a:lnSpc>
              <a:spcBef>
                <a:spcPts val="21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Transfer RNA (tRNA)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695160" indent="-339480">
              <a:lnSpc>
                <a:spcPct val="90000"/>
              </a:lnSpc>
              <a:spcBef>
                <a:spcPts val="21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Notice the 3-letter anticodon &amp; amino acid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  <p:pic>
        <p:nvPicPr>
          <p:cNvPr id="531" name="Picture 3" descr=""/>
          <p:cNvPicPr/>
          <p:nvPr/>
        </p:nvPicPr>
        <p:blipFill>
          <a:blip r:embed="rId4"/>
          <a:stretch/>
        </p:blipFill>
        <p:spPr>
          <a:xfrm>
            <a:off x="4800600" y="1981080"/>
            <a:ext cx="4151160" cy="4648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46" dur="indefinite" restart="never" nodeType="tmRoot">
          <p:childTnLst>
            <p:seq>
              <p:cTn id="547" dur="indefinite" nodeType="mainSeq">
                <p:childTnLst>
                  <p:par>
                    <p:cTn id="548" nodeType="clickEffect" fill="hold">
                      <p:stCondLst>
                        <p:cond delay="0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nodeType="clickEffect" fill="hold">
                      <p:stCondLst>
                        <p:cond delay="indefinite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Chalkboard"/>
              </a:rPr>
              <a:t>TRANSLATION</a:t>
            </a:r>
            <a:endParaRPr b="0" lang="en-US" sz="50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695160" indent="-339480">
              <a:lnSpc>
                <a:spcPct val="90000"/>
              </a:lnSpc>
              <a:spcBef>
                <a:spcPts val="21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mRNA is read in codons (3 letters at a time)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695160" indent="-339480">
              <a:lnSpc>
                <a:spcPct val="90000"/>
              </a:lnSpc>
              <a:spcBef>
                <a:spcPts val="21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A tRNA anticodon matches up with the mRNA codon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695160" indent="-339480">
              <a:lnSpc>
                <a:spcPct val="90000"/>
              </a:lnSpc>
              <a:spcBef>
                <a:spcPts val="21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tRNA has an amino acid attached at the top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695160" indent="-339480">
              <a:lnSpc>
                <a:spcPct val="90000"/>
              </a:lnSpc>
              <a:spcBef>
                <a:spcPts val="21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See your amino acid chart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timing>
    <p:tnLst>
      <p:par>
        <p:cTn id="564" dur="indefinite" restart="never" nodeType="tmRoot">
          <p:childTnLst>
            <p:seq>
              <p:cTn id="565" dur="indefinite" nodeType="mainSeq">
                <p:childTnLst>
                  <p:par>
                    <p:cTn id="566" nodeType="clickEffect" fill="hold">
                      <p:stCondLst>
                        <p:cond delay="0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nodeType="clickEffect" fill="hold">
                      <p:stCondLst>
                        <p:cond delay="indefinite"/>
                      </p:stCondLst>
                      <p:childTnLst>
                        <p:par>
                          <p:cTn id="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888840" y="151920"/>
            <a:ext cx="7366320" cy="17780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0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ranslation</a:t>
            </a:r>
            <a:r>
              <a:rPr b="0" lang="en-US" sz="5000" spc="-1" strike="noStrike">
                <a:solidFill>
                  <a:srgbClr val="ffffff"/>
                </a:solidFill>
                <a:latin typeface="Chalkboard"/>
              </a:rPr>
              <a:t> is:</a:t>
            </a:r>
            <a:endParaRPr b="0" lang="en-US" sz="50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888840" y="2069640"/>
            <a:ext cx="7366320" cy="403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695160" indent="-339480">
              <a:spcBef>
                <a:spcPts val="21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halkboard"/>
              </a:rPr>
              <a:t>The process of synthesizing amino acids into proteins with the aid of RNA </a:t>
            </a:r>
            <a:endParaRPr b="0" lang="en-US" sz="5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timing>
    <p:tnLst>
      <p:par>
        <p:cTn id="586" dur="indefinite" restart="never" nodeType="tmRoot">
          <p:childTnLst>
            <p:seq>
              <p:cTn id="587" dur="indefinite" nodeType="mainSeq">
                <p:childTnLst>
                  <p:par>
                    <p:cTn id="588" nodeType="clickEffect" fill="hold">
                      <p:stCondLst>
                        <p:cond delay="0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Chalkboard"/>
            </a:endParaRPr>
          </a:p>
        </p:txBody>
      </p:sp>
      <p:pic>
        <p:nvPicPr>
          <p:cNvPr id="537" name="Picture 2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8001000" cy="6324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halkboard"/>
              </a:rPr>
              <a:t>Protein Synthesis in a nutshell</a:t>
            </a:r>
            <a:endParaRPr b="0" lang="en-US" sz="4800" spc="-1" strike="noStrike">
              <a:solidFill>
                <a:srgbClr val="ffffff"/>
              </a:solidFill>
              <a:latin typeface="Chalkboard"/>
            </a:endParaRPr>
          </a:p>
        </p:txBody>
      </p:sp>
      <p:pic>
        <p:nvPicPr>
          <p:cNvPr id="539" name="Picture 2" descr=""/>
          <p:cNvPicPr/>
          <p:nvPr/>
        </p:nvPicPr>
        <p:blipFill>
          <a:blip r:embed="rId1"/>
          <a:stretch/>
        </p:blipFill>
        <p:spPr>
          <a:xfrm>
            <a:off x="1751040" y="1370160"/>
            <a:ext cx="5487840" cy="5487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888840" y="151920"/>
            <a:ext cx="7366320" cy="17780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Chalkboard"/>
              </a:rPr>
              <a:t>Translation</a:t>
            </a:r>
            <a:br>
              <a:rPr sz="5000"/>
            </a:br>
            <a:r>
              <a:rPr b="0" lang="en-US" sz="5000" spc="-1" strike="noStrike">
                <a:solidFill>
                  <a:srgbClr val="ffffff"/>
                </a:solidFill>
                <a:latin typeface="Chalkboard"/>
              </a:rPr>
              <a:t>(this is not in the notes)</a:t>
            </a:r>
            <a:endParaRPr b="0" lang="en-US" sz="50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41" name=""/>
          <p:cNvSpPr txBox="1"/>
          <p:nvPr/>
        </p:nvSpPr>
        <p:spPr>
          <a:xfrm>
            <a:off x="888840" y="2069640"/>
            <a:ext cx="7366320" cy="403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657360" indent="-339840">
              <a:spcBef>
                <a:spcPts val="21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The mRNA brings the DNA blueprints (plans) to the cytoplasm.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marL="657360" indent="-339840">
              <a:spcBef>
                <a:spcPts val="21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The rRNA (ribosomes) bind to the mRNA. This is the construction site, where we build the protein.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marL="657360" indent="-339840">
              <a:spcBef>
                <a:spcPts val="21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The tRNA brings the materials (Amino Acids) to the construction site (ribosomes).  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888840" y="1802880"/>
            <a:ext cx="7366320" cy="17780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Chalkboard"/>
            </a:endParaRPr>
          </a:p>
        </p:txBody>
      </p:sp>
      <p:pic>
        <p:nvPicPr>
          <p:cNvPr id="465" name="" descr=""/>
          <p:cNvPicPr/>
          <p:nvPr/>
        </p:nvPicPr>
        <p:blipFill>
          <a:blip r:embed="rId1"/>
          <a:stretch/>
        </p:blipFill>
        <p:spPr>
          <a:xfrm>
            <a:off x="888840" y="3657600"/>
            <a:ext cx="7366320" cy="1028880"/>
          </a:xfrm>
          <a:prstGeom prst="rect">
            <a:avLst/>
          </a:prstGeom>
          <a:ln w="0">
            <a:noFill/>
          </a:ln>
        </p:spPr>
      </p:pic>
      <p:pic>
        <p:nvPicPr>
          <p:cNvPr id="466" name="Picture 3" descr="P200812191416345171491583.jpg"/>
          <p:cNvPicPr/>
          <p:nvPr/>
        </p:nvPicPr>
        <p:blipFill>
          <a:blip r:embed="rId2"/>
          <a:stretch/>
        </p:blipFill>
        <p:spPr>
          <a:xfrm>
            <a:off x="-533520" y="0"/>
            <a:ext cx="103377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888840" y="152280"/>
            <a:ext cx="7366320" cy="9144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Chalkboard"/>
              </a:rPr>
              <a:t>Metabolism</a:t>
            </a:r>
            <a:endParaRPr b="0" lang="en-US" sz="50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0" y="9907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657360" indent="-339840">
              <a:spcBef>
                <a:spcPts val="21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Metabolism is the sum of all of life’s processes of an organism.  For example:  You take energy in and you expend energy by life’s activities.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marL="657360" indent="-339840">
              <a:spcBef>
                <a:spcPts val="21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Young people have higher metabolism than adults because of the processes of growing.  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marL="657360" indent="-339840">
              <a:spcBef>
                <a:spcPts val="21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Plants use less energy during the night because they are not doing photosynthesis.  So, a plant’s metabolism is higher during the day.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marL="657360" indent="-339840">
              <a:spcBef>
                <a:spcPts val="21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Which one has higher metabolism?  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marL="657360" indent="-339840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Athlete versus video gamer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timing>
    <p:tnLst>
      <p:par>
        <p:cTn id="596" dur="indefinite" restart="never" nodeType="tmRoot">
          <p:childTnLst>
            <p:seq>
              <p:cTn id="597" dur="indefinite" nodeType="mainSeq">
                <p:childTnLst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888840" y="152280"/>
            <a:ext cx="7366320" cy="990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Chalkboard"/>
              </a:rPr>
              <a:t>Anabolism</a:t>
            </a:r>
            <a:endParaRPr b="0" lang="en-US" sz="50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45" name=""/>
          <p:cNvSpPr txBox="1"/>
          <p:nvPr/>
        </p:nvSpPr>
        <p:spPr>
          <a:xfrm>
            <a:off x="888840" y="2069640"/>
            <a:ext cx="7366320" cy="403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 fontScale="96000"/>
          </a:bodyPr>
          <a:p>
            <a:pPr marL="630720" indent="-326160">
              <a:spcBef>
                <a:spcPts val="2100"/>
              </a:spcBef>
              <a:buClr>
                <a:srgbClr val="ff0000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halkboard"/>
              </a:rPr>
              <a:t>Anabolism</a:t>
            </a: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 is the building of molecules and storing energy.  What is one example of this?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  <a:p>
            <a:pPr marL="630720" indent="-326160">
              <a:spcBef>
                <a:spcPts val="2100"/>
              </a:spcBef>
              <a:buClr>
                <a:srgbClr val="ff0000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halkboard"/>
              </a:rPr>
              <a:t>Catabolism</a:t>
            </a:r>
            <a:r>
              <a:rPr b="0" lang="en-US" sz="3600" spc="-1" strike="noStrike">
                <a:solidFill>
                  <a:srgbClr val="ffffff"/>
                </a:solidFill>
                <a:latin typeface="Chalkboard"/>
              </a:rPr>
              <a:t> is processes that break molecules down to release energy.  What is one example of this?</a:t>
            </a:r>
            <a:endParaRPr b="0" lang="en-US" sz="36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timing>
    <p:tnLst>
      <p:par>
        <p:cTn id="610" dur="indefinite" restart="never" nodeType="tmRoot">
          <p:childTnLst>
            <p:seq>
              <p:cTn id="611" dur="indefinite" nodeType="mainSeq">
                <p:childTnLst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888840" y="151920"/>
            <a:ext cx="7366320" cy="17780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Chalkboard"/>
              </a:rPr>
              <a:t>We are finished!!!!</a:t>
            </a:r>
            <a:endParaRPr b="0" lang="en-US" sz="50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547" name=""/>
          <p:cNvSpPr txBox="1"/>
          <p:nvPr/>
        </p:nvSpPr>
        <p:spPr>
          <a:xfrm>
            <a:off x="888840" y="2069640"/>
            <a:ext cx="7366320" cy="4038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/>
          </a:bodyPr>
          <a:p>
            <a:pPr marL="657360" indent="-339840">
              <a:spcBef>
                <a:spcPts val="2100"/>
              </a:spcBef>
              <a:buClr>
                <a:srgbClr val="ffffff"/>
              </a:buClr>
              <a:buSzPct val="66000"/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halkboard"/>
              </a:rPr>
              <a:t>Test is on Monday!!!!</a:t>
            </a:r>
            <a:endParaRPr b="0" lang="en-US" sz="4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914040" y="228600"/>
            <a:ext cx="7365960" cy="990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halkboard"/>
              </a:rPr>
              <a:t>Review DNA</a:t>
            </a:r>
            <a:endParaRPr b="0" lang="en-US" sz="54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68" name=""/>
          <p:cNvSpPr txBox="1"/>
          <p:nvPr/>
        </p:nvSpPr>
        <p:spPr>
          <a:xfrm>
            <a:off x="304920" y="1447920"/>
            <a:ext cx="8254800" cy="54100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695160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What is a nucleotide?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marL="6951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marL="6951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marL="6951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marL="695160"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What shape does DNA have?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1" marL="112716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1" marL="112716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lvl="1" marL="112716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marL="695160"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What are the nitrogen bases in DNA?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marL="6951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marL="6951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marL="6951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marL="695160"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halkboard"/>
              </a:rPr>
              <a:t>Where do you find DNA?</a:t>
            </a: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  <a:p>
            <a:pPr marL="6951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7365960" cy="990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halkboard"/>
              </a:rPr>
              <a:t>Review DNA</a:t>
            </a:r>
            <a:endParaRPr b="0" lang="en-US" sz="60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6840" y="1066320"/>
            <a:ext cx="8534520" cy="5791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695160" indent="-342720"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What is a nucleotide?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1127160" indent="-285840">
              <a:buSzPct val="102805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Sugar, phosphate, and base 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112716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695160" indent="-342720"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What shape does DNA have?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1127160" indent="-285840">
              <a:buSzPct val="102805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Double Helix 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112716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695160" indent="-342720"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What are the nitrogen bases in DNA?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1127160" indent="-285840">
              <a:buSzPct val="102805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ADENINE, THYMINE, GUANINE AND CYTOSINE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112716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marL="695160" indent="-342720"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Where do you find DNA?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lvl="1" marL="1127160" indent="-285840">
              <a:buSzPct val="102805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NUCLEUS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736596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Chalkboard"/>
              </a:rPr>
              <a:t>BASE PAIRING</a:t>
            </a:r>
            <a:endParaRPr b="0" lang="en-US" sz="50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343080" indent="-343080">
              <a:buClr>
                <a:srgbClr val="ffffff"/>
              </a:buClr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ADENINE – THYMINE (URACIL IN RNA)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buClr>
                <a:srgbClr val="ffffff"/>
              </a:buClr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buClr>
                <a:srgbClr val="ffffff"/>
              </a:buClr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GUANINE – CYTOSINE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buClr>
                <a:srgbClr val="ffffff"/>
              </a:buClr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buClr>
                <a:srgbClr val="ffffff"/>
              </a:buClr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buClr>
                <a:srgbClr val="ffffff"/>
              </a:buClr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A – T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buClr>
                <a:srgbClr val="ffffff"/>
              </a:buClr>
              <a:buFont typeface="Chalkboa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G – C 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ALWAYS!!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5" dur="500"/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0" dur="500"/>
                                        <p:tgtEl>
                                          <p:spTgt spid="4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5" dur="500"/>
                                        <p:tgtEl>
                                          <p:spTgt spid="4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0" dur="500"/>
                                        <p:tgtEl>
                                          <p:spTgt spid="4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5" dur="500"/>
                                        <p:tgtEl>
                                          <p:spTgt spid="4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halkboard"/>
              </a:rPr>
              <a:t>Complete the DNA strand:</a:t>
            </a:r>
            <a:endParaRPr b="0" lang="en-US" sz="4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74" name="TextBox 4"/>
          <p:cNvSpPr/>
          <p:nvPr/>
        </p:nvSpPr>
        <p:spPr>
          <a:xfrm>
            <a:off x="1190520" y="1447920"/>
            <a:ext cx="12718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A - ___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G - ___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C - ___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C - ___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T - ___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G - ___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75" name="TextBox 5"/>
          <p:cNvSpPr/>
          <p:nvPr/>
        </p:nvSpPr>
        <p:spPr>
          <a:xfrm>
            <a:off x="5727600" y="1447920"/>
            <a:ext cx="123984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T - ___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G - ___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C – ___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G - ___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A - ___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halkboard"/>
              </a:rPr>
              <a:t>A - ___</a:t>
            </a: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0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halkboard"/>
              </a:rPr>
              <a:t>RNA</a:t>
            </a:r>
            <a:endParaRPr b="0" lang="en-US" sz="6000" spc="-1" strike="noStrike">
              <a:solidFill>
                <a:srgbClr val="ffffff"/>
              </a:solidFill>
              <a:latin typeface="Chalkboard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695160" indent="-342720"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Ribonucleic Acid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695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695160" indent="-342720"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Contains Ribose as its 5-carbon sugar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695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695160" indent="-342720"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Single strand-not double helix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695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695160" indent="-342720"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Nitrogen Bases are A, C, G, and U (Uracil)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695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  <a:p>
            <a:pPr marL="695160" indent="-342720"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NO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ymine</a:t>
            </a:r>
            <a:r>
              <a:rPr b="0" lang="en-US" sz="3200" spc="-1" strike="noStrike">
                <a:solidFill>
                  <a:srgbClr val="ffffff"/>
                </a:solidFill>
                <a:latin typeface="Chalkboard"/>
              </a:rPr>
              <a:t> in RNA!!!!!</a:t>
            </a:r>
            <a:endParaRPr b="0" lang="en-US" sz="3200" spc="-1" strike="noStrike">
              <a:solidFill>
                <a:srgbClr val="ffffff"/>
              </a:solidFill>
              <a:latin typeface="Chalkboard"/>
            </a:endParaRPr>
          </a:p>
        </p:txBody>
      </p: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0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1">
                                  <p:stCondLst>
                                    <p:cond delay="1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30T10:49:08Z</dcterms:created>
  <dc:creator>Tami D. Russell</dc:creator>
  <dc:description/>
  <cp:keywords/>
  <dc:language>en-US</dc:language>
  <cp:lastModifiedBy>jcobb</cp:lastModifiedBy>
  <cp:lastPrinted>2011-11-28T02:35:11Z</cp:lastPrinted>
  <dcterms:modified xsi:type="dcterms:W3CDTF">2011-12-01T20:16:28Z</dcterms:modified>
  <cp:revision>16</cp:revision>
  <dc:subject/>
  <dc:title>RNA and Protein Synthesis</dc:title>
</cp:coreProperties>
</file>